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E602-EE24-4289-915A-F050D3FE5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8D0B-1508-41C9-B4BD-A631BEAA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EA4E-FAB8-4AEE-B959-3FF1750A9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AB1E-C9BA-40B0-91D6-B549B75DA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A4FE-F18E-49D1-A3F5-EBAD89C0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2F01-35A0-42EA-99E8-FADFF1DD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9482-BC1D-438D-BEA5-9D6162E0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6A24-694C-4088-B0F9-161F0E46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91D5-6155-4309-BCC8-861A9141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DF09-D351-406D-BC41-47816D3A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D5A8-A432-42CB-8FAB-1BCBF10C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D250-848A-470C-8A44-D52B2B0D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7D03-672A-4A6F-856E-CD427DAB0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692280"/>
            <a:ext cx="867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000" y="549360"/>
            <a:ext cx="7488360" cy="55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ОПОВІДЬ НАУКОВОГО СЕМІНА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А ТЕМ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Створення моделі використання ІАС контролю та оцінювання навчальної діяльності студентів ВНЗ для заочної та денної  форм навчання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ОВІДАЧ: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.Т.Н., ДОЦЕНТ   ОКСАМИТНА Л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26920" y="260280"/>
            <a:ext cx="8066160" cy="66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Системна модель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інформаційної аналітичної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системи є системою моделей складної системи і покликана відображати різноманітні аспекти структури навчальної діяльності ВНЗ, функціонування (перебігу процесів навчання та контролю знань) та розвитку (адаптації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Ці аспекти мають різні рівн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Times New Roman"/>
              </a:rPr>
              <a:t>Перший рівень – рівень цілей</a:t>
            </a:r>
            <a:r>
              <a:rPr b="0" i="1" lang="uk-UA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Даний рівень становить сукупність цілей навчання, як деяку систему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авильна постановка цілей навчання є визначним фактором при розробці  дистанційного курс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Структура системи цілей деревоподібна і може бути описана наступним чино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де 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– кінцева ціл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                         –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відображення, що визначають для кожного                       кожної цілі             , що задані на множині об’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єктів, задіяних в процесі навчанн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ціль                  , підціллю якої є      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Кожний елемент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uk-UA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системи цілей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z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можна представити у вигляді множин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= &l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&gt;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–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результат, який потрібно отримати відповідно до поставленої цілі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–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оцінка якості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–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вимоги до отримання результат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S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затрати ресурсів, які потрібні для отримання результат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–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час отримання результа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Між цілями існують відображення, що встановлюють міжрівневі зв’яз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и цьому кожна ціль, в свою чергу, розбивається на підмножину альтернативних ці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708360" y="2133720"/>
                <a:ext cx="302580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Ц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∪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258920" y="2852640"/>
                <a:ext cx="792000" cy="2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187280" y="3068640"/>
                <a:ext cx="82872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580000" y="3068640"/>
                <a:ext cx="792360" cy="2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,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7380360" y="3068640"/>
                <a:ext cx="5047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332000" y="3500280"/>
                <a:ext cx="68580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348000" y="350028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7487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</a:rPr>
              <a:t>Рівень задач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є другим рівнем системної моделі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інформаційної аналітичної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системи та становить систему (сукупність) зада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Задача навчання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– це більш детальний опис того, що особа, яка навчається, може  робити краще після вивчення Д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Кожна задача  формально може бути виражена у такому вигляді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де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    – множина (перелік) вихідних даних задачі    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                      –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множина результатів розв’язання задачі    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На множині задач  задано також функції:                          і     , що визначають для кожної задачі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i="1" lang="uk-UA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) –  модель особи, що навчаєть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i="1" lang="uk-UA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) –  модель організації навчальних матеріалі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          – 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метод розв’язання задачі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          –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обмеження, що використовуються при розв’язанні задачі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Для кожної задачі задається  множина обмеже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          –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оцінка результатів розв’язку задачі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Відносно          і          проходить процес прийняття рішень рівня зада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780000" y="1709640"/>
                <a:ext cx="18000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З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σ</m:t>
                    </m:r>
                    <m:r>
                      <m:t xml:space="preserve">(</m:t>
                    </m:r>
                    <m:r>
                      <m:t xml:space="preserve">З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З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971640" y="2276640"/>
                <a:ext cx="4316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(</m:t>
                    </m:r>
                    <m:r>
                      <m:t xml:space="preserve">З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435640" y="2276640"/>
                <a:ext cx="20016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З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435640" y="2492280"/>
                <a:ext cx="19836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З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015920" y="2492280"/>
                <a:ext cx="27468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З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140360" y="2997360"/>
                <a:ext cx="36036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500720" y="2997360"/>
                <a:ext cx="873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Т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508720" y="3022560"/>
                <a:ext cx="169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68360" y="3959280"/>
                <a:ext cx="46836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З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68360" y="4221000"/>
                <a:ext cx="43164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(</m:t>
                    </m:r>
                    <m:r>
                      <m:t xml:space="preserve">З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68360" y="4724280"/>
                <a:ext cx="468360" cy="2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З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332000" y="5229360"/>
                <a:ext cx="3603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(</m:t>
                    </m:r>
                    <m:r>
                      <m:t xml:space="preserve">З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908000" y="5229360"/>
                <a:ext cx="4143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З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4360" y="547920"/>
            <a:ext cx="8208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вень алгоритмів (засобів) навчання та контролю знань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ретій рівень) – це логіко-динамічна система (ЛДС), елементами якої є операц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ристовуючи засоби моделювання і відтворюючи алгоритм на ЕОМ, можна визначити основні тимчасові параметри, які затрачені на виконання тих або інших операторів і цілих їх послідовнос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ий рівень системної моделі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лементи цього рівня назвемо організаційно-технічними підрозділами, які є виконавцями, що мають усі види забезпечення. Підрозділи організовані у логіко-динамічну систему (ієрархічного типу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-4541760" y="3309840"/>
                <a:ext cx="34272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/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684360" y="3054600"/>
            <a:ext cx="828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 навчальної діяльності.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цьому рівні представляється як організація деякої, у тому числі альтернативної, взаємодії елементів організаційної структури при досягненні цілей і розв’язанні задач відповідно до вибраних алгоритмів навчальної діяльності. Це забезпечує комфорт особі, що навчається, надаючи можливість допомоги в навігації, доступу до навчальних та інформаційних матеріалів та засобів взаємодії з іншими учасниками ДО. Наявність альтернативної різноманітності забезпечується наявністю розгалуженої альтернативної структури виконання. Щоб мати можливість описувати такі структури узагальненими математичними моделями, використовується структурний підхі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360440" y="2816280"/>
                <a:ext cx="36036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/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11280" y="549360"/>
            <a:ext cx="8066160" cy="60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Більш детально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модель використання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ІАС контролю та оцінювання навчальної діяльності студентів ВНЗ можна представити наступним чином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МІАС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={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},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множина об’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єктів, за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діяних в процесі навчання;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множина відношень, заданих на множині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.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Нехай множина       представлена наступним чином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= {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},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множин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икладачі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за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діяних в процесі навчання: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V= {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}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множина осіб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які навчаються: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= {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},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засоби навчання та контролю знань: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= {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},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навчальні матеріали;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методичні засоби навчання;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технічні засоби навчання;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засоби навчання на основі сучасних інформаційних технологі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716360" y="1430280"/>
                <a:ext cx="4320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,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258920" y="1700280"/>
                <a:ext cx="20160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258920" y="1989000"/>
                <a:ext cx="26208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940360" y="1989000"/>
                <a:ext cx="20160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067280" y="2781360"/>
                <a:ext cx="20160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340000" y="2276640"/>
                <a:ext cx="20160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26920" y="359640"/>
            <a:ext cx="8137800" cy="59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редставимо  засоби навчання  у вигляді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={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41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42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}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де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41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комп’ютерні комунікації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42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середовище навчальної діяльності, яке включає в себ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засоби викладання (інтерактивні та неінтерактивні, мультимедійні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засоби контролю знан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засоби сертифікац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Особу, яка навчається,   можна представити у вигляді множини певних атрибуті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={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}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чатковий рівень підготовки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особи, яка навчаєть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сихологічні властивості особи, яка навчаєть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озумові здібності особи, яка навчаєть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творчі здібності особи, яка навчаєть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івень підготовки особи, яка навчається, до роботи з системо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знання особи, яка навчається, з дистанційного курс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івень знань особи, яка навчається, після завершення навч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68360" y="239040"/>
            <a:ext cx="8496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Процес навчання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– це послідовна сукупність засвоєння окремих розділів навчального матеріалу. Кожен етап навчальної діяльності закінчується процесом тестування з відповідними результатами. Особі, що навчається,  надається можливість в ході процесу навчання вибирати засоби засвоєння навчального матеріа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Модель особи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, яка навчається, можна представити у вигляді множин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=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&gt;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кінченна множина входів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–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кінченна множин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стані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кінченна множин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иході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очатковий ста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функція переході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функція виход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Функція переходу породжує множину матриць переходів, а функція виходу – матрицю виходу. Серед множини станів можна виділити множину заключних станів, і кожен стан залежить від попереднього. Одержана залежність може бути представлена графом, що містить послідовність підцілей, множину належності елементів стану. Таким чином, в результаті отримаємо недетермінований автомат, який моделює поведінку особи, яка навчається,  в ході навчальної діяльності при різних результатах тестув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0920" y="632160"/>
            <a:ext cx="864072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ОПОВІДЬ ЗАВЕРШ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ЯКУЮ ЗА УВАГУ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20:08Z</dcterms:created>
  <dc:creator>Vet</dc:creator>
  <dc:description/>
  <dc:language>en-US</dc:language>
  <cp:lastModifiedBy>nout</cp:lastModifiedBy>
  <dcterms:modified xsi:type="dcterms:W3CDTF">2009-09-17T11:08:10Z</dcterms:modified>
  <cp:revision>55</cp:revision>
  <dc:subject/>
  <dc:title>Слайд 1</dc:title>
</cp:coreProperties>
</file>